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F2151-76F0-4147-A341-67E604CB3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D2B60-F56A-4686-88FF-43F5B6BCE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3B9B3-B0AF-44FF-B6FD-7ED42F3AA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3DF4C-D263-485F-8B79-1901776FB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6ED4B-5BD9-4A4F-8B24-1D398E462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0C0C0-6DA4-4B99-B3CD-6483BECDC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EE3AE-7BE2-4267-A815-9E850AF90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C932B-30F6-4C98-A4ED-4D4B396F6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D1CED-35A2-4692-AA75-235827479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7EEAB-CECF-490D-8F00-12513B6B8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BBD05-F428-4EBE-B680-1B722940C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A5D7D-BE5F-4611-8439-58A665D70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FFFE-BD38-4D75-BBCE-4D4DBAF6C6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Picture 10" descr=""/>
          <p:cNvPicPr/>
          <p:nvPr/>
        </p:nvPicPr>
        <p:blipFill>
          <a:blip r:embed="rId1">
            <a:grayscl/>
          </a:blip>
          <a:stretch/>
        </p:blipFill>
        <p:spPr>
          <a:xfrm>
            <a:off x="5148360" y="981000"/>
            <a:ext cx="1439640" cy="1346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9T11:01:35Z</dcterms:modified>
  <cp:revision>46</cp:revision>
  <dc:subject/>
  <dc:title>SALARIUL</dc:title>
</cp:coreProperties>
</file>